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FB3-21A3-46B6-9E4F-251F8ECB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4CC-A8F5-4D9D-9EE4-6933E95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139-6DAF-4EFC-880E-A3151406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86A-C36F-4C2E-B69D-73733149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8151-4D64-43AE-867E-BCDD26AB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4CAA-569A-471A-B9AB-39D4B17A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C0A-1D17-40EE-A479-B8272CFB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F67C-C6FE-44DB-9E73-0957E2C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522F-9EAC-4C7A-A901-B8D0CB4A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7B7D-5F14-4B13-BCD3-62760C5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C31C-FAF8-488F-88AD-C119433E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627-9F9D-44B1-BD6C-AE66B33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F3EB-C81E-4C03-A348-43AC74C4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8E7A-11F3-483D-BCA2-54EC3AD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0BCE-9C37-4AEC-977A-8D50D93F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C72-4531-4401-827E-593600F1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BD68-89E3-4D81-A760-5D9F1FD9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B21-4B47-4FF2-BB15-07FCE588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F69-7BE2-46C2-B830-97D4C4F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746-2874-4847-B666-872C9190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5B4-4068-4B5F-A655-4603882F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D0C-C237-4D5B-8BF1-443268C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4A6-AD56-4B06-A4F6-07CB42C4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2E6-4A2F-40FC-BFF6-43EF281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F200-0DB0-472F-A76E-016E47420ABB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C33A-72E0-4E11-A38A-2F983D0DD74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E I ODCINKI RÓWNOLEG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RÓWNOLEG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71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, a do ekierki linij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Przesuw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22360" y="4464000"/>
            <a:ext cx="655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86640" y="4103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32000" y="4464000"/>
            <a:ext cx="1800000" cy="1512720"/>
            <a:chOff x="3132000" y="4464000"/>
            <a:chExt cx="1800000" cy="1512720"/>
          </a:xfrm>
        </p:grpSpPr>
        <p:sp>
          <p:nvSpPr>
            <p:cNvPr id="102" name=""/>
            <p:cNvSpPr/>
            <p:nvPr/>
          </p:nvSpPr>
          <p:spPr>
            <a:xfrm flipV="1">
              <a:off x="3419280" y="4681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132000" y="446400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16000" y="234936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4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468936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s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 prostej t, co zapisujemy symboliczni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az 24" descr=""/>
          <p:cNvPicPr/>
          <p:nvPr/>
        </p:nvPicPr>
        <p:blipFill>
          <a:blip r:embed="rId1"/>
          <a:srcRect l="8112" t="1585" r="11499" b="1303"/>
          <a:stretch/>
        </p:blipFill>
        <p:spPr>
          <a:xfrm>
            <a:off x="2556000" y="2798640"/>
            <a:ext cx="57600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2000" y="198900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rysujemy prostą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429000"/>
            <a:ext cx="643572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86640" y="3062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5634000"/>
            <a:ext cx="5040360" cy="0"/>
          </a:xfrm>
          <a:prstGeom prst="line">
            <a:avLst/>
          </a:prstGeom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27720" y="527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527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67000" y="5815080"/>
            <a:ext cx="61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roste pokrywające się s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18519E-006 L -2.5E-006 -0.15092 E">
                                      <p:cBhvr>
                                        <p:cTn id="4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RÓWNOLEG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36640" y="1719360"/>
            <a:ext cx="0" cy="4093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171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1630440"/>
            <a:ext cx="9360" cy="40035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124000"/>
            <a:ext cx="4005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wie proste odpoczywał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ię nie doty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ówn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legł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na tapcz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łychać było tylko chrap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ówno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leg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22360" y="2259000"/>
            <a:ext cx="274500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9720"/>
            <a:ext cx="274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16640" y="2259000"/>
            <a:ext cx="288108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72000" y="2979720"/>
            <a:ext cx="292572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6640" y="131436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jeżeli leżą na prostych równoleg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1640" y="2259000"/>
            <a:ext cx="1260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51280" y="2979720"/>
            <a:ext cx="72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21640" y="2979720"/>
            <a:ext cx="85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2000" y="2259000"/>
            <a:ext cx="112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22590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51280" y="225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0621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7000" y="2214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6640" y="221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4200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AB ||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KL ||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22360" y="5589720"/>
            <a:ext cx="679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5589720"/>
            <a:ext cx="126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5589720"/>
            <a:ext cx="855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6640" y="459900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leżące na jednej prostej są do siebi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32000" y="558972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37000" y="55897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128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7000" y="608472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 || 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33:48Z</dcterms:modified>
  <cp:revision>12</cp:revision>
  <dc:subject/>
  <dc:title>Slajd 1</dc:title>
</cp:coreProperties>
</file>